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7B13C2-92F0-44A9-BE0D-18D3F7F9D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44A8BE-1CC7-4BEF-B9CC-121F3BF5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C8CE7C-2CCC-4153-AC2F-E0D9A697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3E6DA8-E939-42CA-A666-7738A27F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113C6F-1509-4B39-8228-B43D8B8B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E58824-9316-4C10-94B1-8FC35F8D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63C3F6-1942-4AFB-AEAE-8CEE48CE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531120"/>
            <a:ext cx="9144000" cy="326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3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6240" indent="-22284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1816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93880" y="657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1442880"/>
            <a:ext cx="63990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9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81480" y="5246640"/>
            <a:ext cx="3648240" cy="125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46120" y="2109960"/>
            <a:ext cx="62355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ie Stephe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Research Scientist, Eli Lill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Particip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8000"/>
          </a:bodyPr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e Ander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B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Doh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tie Hassanza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ja Jentz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Mar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ias Samwa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781680" cy="3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: Data Set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49160" y="1440000"/>
            <a:ext cx="755676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98960" y="6629400"/>
            <a:ext cx="56592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http://esw.w3.org/topic/HCLSIG/LODD/Data/DataSet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Drug Data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6300720"/>
            <a:ext cx="7391520" cy="480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77000"/>
          </a:bodyPr>
          <a:p>
            <a:pPr marL="28440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Mark Sharp, et al: A Framework for Characterizing Drug Information Source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23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Data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0" r="0" b="2141"/>
          <a:stretch/>
        </p:blipFill>
        <p:spPr>
          <a:xfrm>
            <a:off x="1295280" y="1752480"/>
            <a:ext cx="632484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in Mar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8360"/>
          <a:stretch/>
        </p:blipFill>
        <p:spPr>
          <a:xfrm>
            <a:off x="2133720" y="1371600"/>
            <a:ext cx="4560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97720" cy="417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ly growing cloud of Link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ata sets related to life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’s HCLSIG has published 4 drug related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s needed to linking algorithms and data brow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Data Princip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361440"/>
            <a:ext cx="8231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lassic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2268360" y="50403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2595600" y="4471920"/>
            <a:ext cx="1440" cy="449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30184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835440" y="50259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86856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49440" y="5499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019400" y="5484960"/>
            <a:ext cx="311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63680" y="3792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830760" y="3792600"/>
            <a:ext cx="7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955800" y="3402000"/>
            <a:ext cx="65376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917640" y="3765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181400" y="4465800"/>
            <a:ext cx="180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1731960" y="3772080"/>
            <a:ext cx="46980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054240" y="3664080"/>
            <a:ext cx="717840" cy="150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3079800" y="3897360"/>
            <a:ext cx="66672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365120" y="175752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Web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895480" y="174456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Searc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558440" y="413712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3124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forma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ly unique 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al mechan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Hyper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glue that holds everything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915840" y="5033880"/>
            <a:ext cx="654120" cy="98100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V="1">
            <a:off x="1243080" y="4465800"/>
            <a:ext cx="144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1081080" y="5472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1733400" y="26384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3270240" y="26240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58480" y="417528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ked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36760" y="2362320"/>
            <a:ext cx="5954400" cy="3930120"/>
            <a:chOff x="1436760" y="2362320"/>
            <a:chExt cx="5954400" cy="3930120"/>
          </a:xfrm>
        </p:grpSpPr>
        <p:sp>
          <p:nvSpPr>
            <p:cNvPr id="121" name="Rectangle 5"/>
            <p:cNvSpPr/>
            <p:nvPr/>
          </p:nvSpPr>
          <p:spPr>
            <a:xfrm>
              <a:off x="1442160" y="3903120"/>
              <a:ext cx="68292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"/>
            <p:cNvSpPr/>
            <p:nvPr/>
          </p:nvSpPr>
          <p:spPr>
            <a:xfrm>
              <a:off x="2728440" y="5456160"/>
              <a:ext cx="549360" cy="83628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03480" y="496476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4045680" y="5443920"/>
              <a:ext cx="55080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2880360" y="5846760"/>
              <a:ext cx="2599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199040" y="5834520"/>
              <a:ext cx="26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1467000" y="4006080"/>
              <a:ext cx="6217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433656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2205360" y="4151160"/>
              <a:ext cx="360360" cy="45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3425400" y="4126680"/>
              <a:ext cx="460080" cy="11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435840" y="4556880"/>
              <a:ext cx="489600" cy="157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2107800" y="500040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1591560" y="5450400"/>
              <a:ext cx="54936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1866240" y="4959720"/>
              <a:ext cx="108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1730160" y="5823720"/>
              <a:ext cx="258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436760" y="444708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2661840" y="3909960"/>
              <a:ext cx="68328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56440" y="4455000"/>
              <a:ext cx="684360" cy="44496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999240" y="3897720"/>
              <a:ext cx="68544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3994920" y="4442760"/>
              <a:ext cx="68472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5436360" y="5450400"/>
              <a:ext cx="54828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571104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7"/>
            <p:cNvSpPr/>
            <p:nvPr/>
          </p:nvSpPr>
          <p:spPr>
            <a:xfrm>
              <a:off x="6753600" y="5438160"/>
              <a:ext cx="54972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5588640" y="5842440"/>
              <a:ext cx="259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6906960" y="5830560"/>
              <a:ext cx="262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044480" y="495540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6132960" y="4122720"/>
              <a:ext cx="460080" cy="115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143760" y="4552560"/>
              <a:ext cx="489600" cy="15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5368320" y="390564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5364360" y="4449600"/>
              <a:ext cx="68436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6706800" y="3893400"/>
              <a:ext cx="68436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6702840" y="4437360"/>
              <a:ext cx="68328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H="1">
              <a:off x="4802400" y="4106520"/>
              <a:ext cx="411120" cy="49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4802040" y="4727880"/>
              <a:ext cx="423000" cy="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332676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467640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605268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2"/>
            <p:cNvSpPr/>
            <p:nvPr/>
          </p:nvSpPr>
          <p:spPr>
            <a:xfrm>
              <a:off x="146700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268596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68596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5"/>
            <p:cNvSpPr/>
            <p:nvPr/>
          </p:nvSpPr>
          <p:spPr>
            <a:xfrm>
              <a:off x="403524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6"/>
            <p:cNvSpPr/>
            <p:nvPr/>
          </p:nvSpPr>
          <p:spPr>
            <a:xfrm>
              <a:off x="403524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7"/>
            <p:cNvSpPr/>
            <p:nvPr/>
          </p:nvSpPr>
          <p:spPr>
            <a:xfrm>
              <a:off x="5385600" y="453780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8"/>
            <p:cNvSpPr/>
            <p:nvPr/>
          </p:nvSpPr>
          <p:spPr>
            <a:xfrm>
              <a:off x="5385600" y="401148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9"/>
            <p:cNvSpPr/>
            <p:nvPr/>
          </p:nvSpPr>
          <p:spPr>
            <a:xfrm>
              <a:off x="673488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0"/>
            <p:cNvSpPr/>
            <p:nvPr/>
          </p:nvSpPr>
          <p:spPr>
            <a:xfrm>
              <a:off x="6734880" y="401148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2"/>
            <p:cNvSpPr/>
            <p:nvPr/>
          </p:nvSpPr>
          <p:spPr>
            <a:xfrm>
              <a:off x="5769720" y="2385360"/>
              <a:ext cx="1239840" cy="7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Search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3"/>
            <p:cNvSpPr/>
            <p:nvPr/>
          </p:nvSpPr>
          <p:spPr>
            <a:xfrm>
              <a:off x="3713400" y="2374560"/>
              <a:ext cx="1278360" cy="71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Mash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>
              <a:off x="2109240" y="3291480"/>
              <a:ext cx="38268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5"/>
            <p:cNvSpPr/>
            <p:nvPr/>
          </p:nvSpPr>
          <p:spPr>
            <a:xfrm>
              <a:off x="4160520" y="3291480"/>
              <a:ext cx="38304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6"/>
            <p:cNvSpPr/>
            <p:nvPr/>
          </p:nvSpPr>
          <p:spPr>
            <a:xfrm>
              <a:off x="6212880" y="3289680"/>
              <a:ext cx="383040" cy="35928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1644840" y="2362320"/>
              <a:ext cx="1290240" cy="72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Brow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58"/>
          <p:cNvSpPr/>
          <p:nvPr/>
        </p:nvSpPr>
        <p:spPr>
          <a:xfrm>
            <a:off x="-152280" y="1522440"/>
            <a:ext cx="8762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emantic Web technologies to publish structured data on the Web and set links between data from one data source and data from another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Objects Identified with HTTP U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711360" y="1793880"/>
            <a:ext cx="1465200" cy="74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83000" y="279072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68800" y="336708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10240" y="260352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44360" y="331164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990720" y="24591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990720" y="305280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995400" y="373392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13000" y="178128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176560" y="216540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116800" y="170352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83640" y="4348080"/>
            <a:ext cx="665136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richard.cyganiak.de/foaf.rdf#cygri</a:t>
            </a: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dbpedia.org/resource/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rms an RDF link between two data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770360" y="2754360"/>
            <a:ext cx="3839760" cy="2883960"/>
            <a:chOff x="4770360" y="2754360"/>
            <a:chExt cx="3839760" cy="2883960"/>
          </a:xfrm>
        </p:grpSpPr>
        <p:sp>
          <p:nvSpPr>
            <p:cNvPr id="191" name="Oval 4"/>
            <p:cNvSpPr/>
            <p:nvPr/>
          </p:nvSpPr>
          <p:spPr>
            <a:xfrm>
              <a:off x="4830120" y="489132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6969240" y="275436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5022360" y="301392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5931360" y="424116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770360" y="422568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V="1">
              <a:off x="5465520" y="319104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2"/>
          <p:cNvSpPr/>
          <p:nvPr/>
        </p:nvSpPr>
        <p:spPr>
          <a:xfrm>
            <a:off x="2473200" y="292896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159000" y="350532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000440" y="274176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934920" y="344952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880920" y="259704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880920" y="319104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885960" y="3871800"/>
            <a:ext cx="226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3103560" y="191916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2066760" y="2303640"/>
            <a:ext cx="103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2007360" y="184140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01560" y="193212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4923000" y="2371680"/>
            <a:ext cx="3839760" cy="2884320"/>
            <a:chOff x="4923000" y="2371680"/>
            <a:chExt cx="3839760" cy="2884320"/>
          </a:xfrm>
        </p:grpSpPr>
        <p:sp>
          <p:nvSpPr>
            <p:cNvPr id="211" name="Oval 4"/>
            <p:cNvSpPr/>
            <p:nvPr/>
          </p:nvSpPr>
          <p:spPr>
            <a:xfrm>
              <a:off x="4982760" y="450900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7121880" y="237168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5175000" y="263124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6084000" y="385884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923000" y="384336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5618160" y="280836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625840" y="254628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3311640" y="312264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153080" y="235908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087200" y="306720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033560" y="221472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33560" y="280836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1038240" y="348948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3255840" y="153684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219400" y="192096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2159640" y="145908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3083040" y="4863960"/>
            <a:ext cx="1914480" cy="3024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"/>
          <p:cNvSpPr/>
          <p:nvPr/>
        </p:nvSpPr>
        <p:spPr>
          <a:xfrm>
            <a:off x="754200" y="154944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9120" y="441972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1400" y="563868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40" y="4800600"/>
            <a:ext cx="2116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Hambu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4880" y="5867280"/>
            <a:ext cx="2265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Meunc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3173400" y="5029200"/>
            <a:ext cx="1828800" cy="8380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" y="457200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563868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nked Data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019560" cy="4890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236520" y="5867280"/>
            <a:ext cx="227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2 billion RDF tri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3 million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inkingOpenData?action=AttachFile&amp;do=get&amp;target=LoDLogo"/>
          <p:cNvPicPr/>
          <p:nvPr/>
        </p:nvPicPr>
        <p:blipFill>
          <a:blip r:embed="rId2"/>
          <a:stretch/>
        </p:blipFill>
        <p:spPr>
          <a:xfrm>
            <a:off x="6870600" y="1371600"/>
            <a:ext cx="20448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inking Open Dru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3680" y="1622520"/>
            <a:ext cx="7078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HCLSIG task started October 1,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rimary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Survey publicly available data sets about dru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ublish and interlink these data sets on the We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Explore interesting questions that could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answered if the data sets are 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52:50Z</dcterms:created>
  <dc:creator>kblanc</dc:creator>
  <dc:description/>
  <dc:language>en-US</dc:language>
  <cp:lastModifiedBy>c082000</cp:lastModifiedBy>
  <cp:lastPrinted>2000-03-06T21:03:57Z</cp:lastPrinted>
  <dcterms:modified xsi:type="dcterms:W3CDTF">2009-02-25T22:16:54Z</dcterms:modified>
  <cp:revision>685</cp:revision>
  <dc:subject/>
  <dc:title>Open Innov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</vt:lpwstr>
  </property>
  <property fmtid="{D5CDD505-2E9C-101B-9397-08002B2CF9AE}" pid="3" name="RecordSeries">
    <vt:lpwstr>ADM100</vt:lpwstr>
  </property>
  <property fmtid="{D5CDD505-2E9C-101B-9397-08002B2CF9AE}" pid="4" name="SensitivityClassification">
    <vt:lpwstr>GREEN</vt:lpwstr>
  </property>
</Properties>
</file>